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9C9-5896-450E-BE64-03EEBAD5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99A-E26C-45F8-B62C-E547656F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364-80C9-49C0-BA31-850EA8FB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A42-0826-4BDF-95FA-8C14E0D4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171-AB48-4B49-8778-F4C1FD9F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274-B4EB-4354-B5E7-BA2BED26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39F-7338-4B66-A081-5B429644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B53-D529-436F-B08E-BAE3D130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1C0-C21F-45E7-86D8-5F955762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D9B-3B08-4441-A79C-4C0B2014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22B-9CE2-412E-BA2B-E8763E4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D1E-871B-4C0D-AEE3-D036A140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401C-ABFF-462F-89AC-BB158E6C6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arg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08660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rgument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como secuencia textual, aparece en muchas actividades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discursiv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aracterísticas de la vida social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públ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priva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Puesto que la finalidad de la argumentación es la d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onvenc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persuad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l interlocutor (individual o colectivo), argumentamos en muchas ocasiones: durante una conversación, en una entrevista para conseguir empleo, en una publicidad, en un artículo de opinión, de crítica literaria o cinematografic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argumentación se utiliza en una ampli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variedad de text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especialmente en l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ientífic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filosófic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en el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nsay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en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ratoria política y judici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en los text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periodísticos de opin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en algun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mensajes publicitari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En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lengua or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además de aparecer con frecuencia en la conversación cotidiana (aunque con poco rigor), es la forma dominante en l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bat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oloquios o mesas redonda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otras palabras decimos que la argumentación responde a 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función comunicativ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ograr 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dhesión del Recep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aracterís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undamentales de la argumentación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Obje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cualquier tema controvertido, que se puede tratar de diferentes maner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Locuto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manifiesta su opinión de manera axiológica, tomando 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aráct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olémico, basado en la contraposición de dos o más posturas.  Se formulan enunciados en contraposición con otros enunci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Objetiv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rovocar la adhesión, persuadir, convencer a un interlocutor o a un público de la aceptabilidad de una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81880" cy="597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resumen decimos que la modalidad argumentativa se arma 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artir de un problema y de más de una forma de darle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cuentra con frecuencia en situaciones de comunicación dialogales en que hay u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oponent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u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Opon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oblema que se deba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un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opuest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un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ontrapropues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una búsqueda de argumentos, llamad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Ley de paso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, que lleve a un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onclusión.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texto argumentativo suele organizar el contenido en tres apartad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troduc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desarrollo o cuerpo argumentativo, y conclu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TRODUC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suele partir de una breve exposición (llamada también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 encuadr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”) en la que el argumentador intent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aptar la aten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del destinatario y despertar en él una actitud favor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SARROLL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A la introducción le sigue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que es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idea en torno a la cual se reflexion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Puede estar constituida por una sola idea o por un conjunto de el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ide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 ideas que se pretende demostrar se despliegan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sde dos perspectiv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a d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fens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(se van ofreciendo los argumentos para confirmarla)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 ell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otra d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refutac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revisible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bje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que podría hacer el adversario.  La primera no debe faltar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clusió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Aquí se d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 demostración, donde s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eflexiona sobre el tema desde todos los ángul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hasta llegar a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obje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seado, que s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ofrece como conclu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menudo anunciada al comienzo del escrito. Puede presentarse de varias formas: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Afirmando la idea princip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El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onteni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 se desarrolla asume el rango d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orqu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explica el problem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 los fenómenos que se tratan en una idea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· 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omo propuesta sugere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Este tipo de conclusión se distingue porque el escrito, si bien recoge en síntesis la idea sustancial de la exposición,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no llega a hacer definitivo su razonamiento o a completar su inform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Se asientan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sugerenci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ara futuros trabajos,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briendo cami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hacia otras perspectivas antes de poner punto final al propio tex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lemen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que forman el cuerpo argumentativo se denominan </a:t>
            </a:r>
            <a:r>
              <a:rPr b="1" i="1" lang="es-ES" sz="3200" spc="-1" strike="noStrike">
                <a:solidFill>
                  <a:srgbClr val="ff0066"/>
                </a:solidFill>
                <a:latin typeface="Arial"/>
              </a:rPr>
              <a:t>pruebas, inferencias o argumentos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 y sirven para apoyar la tesis o refut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gún la situación comunicativa, se distingue en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STRUCTUR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MONOLOGA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voz de un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solo suje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rganiza la totalidad del texto argumentativo. Es el caso del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investigado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valora el éxito de un descubrimien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una con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STRUCTURA DIALOGA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planteamiento, la refutación o la justificación y la conclusión se desarrollan a lo largo d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réplicas sucesiv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Es el caso de l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bat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los que es fácil que surjan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ontroversi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la emisión d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juicios pasionales, las descalificaciones y las ironías</a:t>
            </a:r>
            <a:r>
              <a:rPr b="0" lang="it-IT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umentación puede presentarse en orden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rogresiv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i partimos de 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mis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llevan a la conclusión,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regresiv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si saliendo de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clu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aducen justific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orden en el que aparezcan en el texto depende d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quiera conseguir el autor y del razonamiento que si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9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pacidad de argumentar es un rasgo definitorio del ser humano que se desarrol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lingüísticame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sus orígenes, la filosofía se ha ocupado de ello, estudiando los distintos tipos de discurso de los que se sirve la literatura, la política o la ciencia, pero tratando de crear, a su vez, un lenguaje formalizado que despeje al razonamiento de las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mbigüeda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imprecis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las que con frecuencia lo sujeta la retórica del lenguaje na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e camino es el de 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lóg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averiguar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omo se relaciona la estructura del pensamiento con la “realid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, si el método que ha seguido en el proceso argumentativo es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induc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s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ni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 argumentación co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hechos concre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hallar 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nducir una norma gene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los expliqu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tesis suele aparecer al final del texto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modo de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 conclu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se va desde lo particular hasta lo general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el autor puede utilizar un método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deduc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i parte de un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misas gener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lógicamente válidas, para extraer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ey particul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su tesis exp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686800" cy="586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autor puede utilizar también una maner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arale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pretende manifestar de form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ncadenad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ideas indiscutibles (verdaderas o falsas), que no están subordinadas unas a otras por su contenido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no demuestra hipótesis ni saca conclus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afán por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lograr la adhes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de los posibles destinatarios a las ideas expuestas hace que el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proceso argumentativo se diversifiqu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buscando siempre estructuras que ayuden a convencer mej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este modo, algunos textos ofrecen un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structur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ncuadra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con lo que s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nfatiz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mucho más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ide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fendi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se apoya su lógica con la conclusión final, un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reafírmac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de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resentada al comienzo del tex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sis - Argumentos - Tesis ==&gt; Conclusión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estructura explic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fendida aparece a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mienz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l texto, para ser a continua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poyad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or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serie de argumen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sis ==&gt; Argu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argumentaciones conclusiv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or el contrario, son aquellas en las que el autor expon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n primer lugar los argumen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l texto con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los englob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gumentos ==&gt; T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su vez, los argumentos empleados pueden ser de distintos ti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racional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Se basan e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deas y verdad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dmitidas y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ceptad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por el conjunto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de hech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Se basan e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uebas comprobable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de ejemplific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Se basan e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jemplos concre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de autoridad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Se basan en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opin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de una persona de reconocid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estig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que apelan a los sentimien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Con estos argumentos se pretende halagar, despertar compasión, ternura, odi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Procedimientos discur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trata de procedimientos que no son exclusivos de la argumentación antes bien son compartidos por otros modos de organización textual, como la exposición. Desta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FINIC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En la argumentación se emplea par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xplicar el significado de concept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En ocasiones, se utiliza par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mostrar los conocimient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que tiene el argument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OMPAR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(o analogía) sirve para ilustrar y hacer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más comprensibl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lo explicado. Establec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aralelism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ntre lo argumentado y otro hecho, una forma de aclaración que facilita su comprensión por parte de los destinatarios. Este tipo de argumento se basa en la relación de semejanza entre dos h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chas veces sirve para acercar ciertos conceptos al lector comú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se habla de argumentos se pueden consider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uebas dialéctic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las que se intent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efut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un adversario 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vencer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verdad de la opinión mantenida por el argumentador com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azonami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caminado ante todo a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vencimiento o la persua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IT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so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reproduccion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nunciad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mitidos por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xper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Tienen el objetivo de dar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utenticidad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l contenido. Las citas se emplean como argumentos de auto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NUMERACIÓN ACUMULATIV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consiste en aportar varios argumentos en serie. Cumple una funció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tensificado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JEMPLIFIC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se basa en aportar ejemplos concretos para apoyar la tesis. Se trata de casos particulares com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nécdot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uen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metáforas, citas literari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etc.,  que se utilizan para extraer una regla gener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Los ejemplos pueden ser también  el resultado de la experiencia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TERROG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se emplea con fines diversos: provocar, poner en duda un argumento, comprobar los conocimientos del receptor…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Procedimientos lingu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l párraf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s el cauce que sirve para distribuir los diferentes pasos (planteamiento, análisis o argumentos y conclusión) contenidos en la argumentación escr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4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tre los elementos de cohesión textual que relacionan los contenidos repartidos en los diferentes párrafos destaca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repetición léxica o conceptual en torno a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marcadores discursiv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que permiten seguir el proceso de análisis o argumentación y avisan del momento de la conclu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4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 el texto pertenece al ámbit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ientífic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(jurídico, humanidades…) abundan en el léxico lo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tecnicism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Si es de tema má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general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o de enfoque má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subjetiv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suele utilizarse un léxico de registro predominantement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stándar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buena  contraargumenta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fu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uno a un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odos los argumentos contrarios y, a ser posible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ñade alguno nue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ca reparte lo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ecto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ás especificos de la argumentación en tres gru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trastiv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ausales y consecutiv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istributiv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pres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ús frecuentes que se usan par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ntroduci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 propia opinión son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: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ienso, creo, opino, a mi modo de ver, para mí, desde mi punto de vist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autor de un texto argumentativo puede tratar de demostrar la tesis que defien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no só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ediante la utilización de argumento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n favo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sus id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el contrario, e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frecuente la inclusión de argumentos que las refuten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a continua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estruirl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ediante razonamientos lóg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rata de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técnica agres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n la que demostrará a sus lectores u oyentes que todas 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obje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osible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 su tesi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an sido comprobadas 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nvalidada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9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amos a continuación un ejemplo de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nuncio publicitari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que, como toda publicidad tiene una fun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ersuas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xto , que acompaña la foto de un hombre con sonrisa descarada y gafas de sol, que está detrás de una botella de vodka, es  una pregunt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¿qué diría tu mamá si te viese con Eristoff?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una afirmación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: Vodka Eristoff. Un lenguaje dist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153280" cy="597384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n qué se distingu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un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un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razonamie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 frecuencia aparecen como sinónimos, pero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no todos los razonamientos son argument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iferencian por su ámbito de influencia.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Se razona para si mismo; se argumenta para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Razonamos antes de argument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nuestro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rata de expresar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lo mejor del razonamiento. 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05920" cy="5211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mensaje, voluntariamente indefinido, apela al conflicto generacional entre una supuesta chica, que trasgrede las normas, y su mamá que puede enfadarse co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transgrede la hija? A través de “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un lenguaje disti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”, o sea  saliendo con un hombre como el de la foto, mucho mayor que ella, o bebiendo una bebida alcohólica que no debería be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381880" cy="544032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xto y la imagen de esta publicidad simulan una conversación, en la que hay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os puntos de vista opues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hij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que v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ven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tablecidas, y el de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mamá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qu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rit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u manera de comport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ues, es la manifesta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ter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azonami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su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oyección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una herramienta 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ersua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gumentamos para que las ideas puedan ser compartidas. Se justific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a conclusión en términos comprensibles y persuasivos para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azonami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edia la misma distancia que va de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ensami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su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presión oral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nque con frecuencia se emplean como sinónimos, como se ve, son cosas distin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 una serie 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eclara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individualmente o en conjunt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an pruebas de otra manifes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rgument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munic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tán estrechamente relacionadas: s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munica para informar sobre al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sta exposición se puede argumentar para convencer y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ersuadir de alguna propues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bas se pueden presentar de forma independ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05920" cy="566892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decidir si se  está  ante un argumento o no, simplemente se apelará al sentido común y a un  análisis del texto sobre el que hay que decidir, centrándose en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  El texto, ¿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tiene una conclus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?. Si es así, ¿cuál 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  El texto ¿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frece razones que apoyen la conclus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?, es decir, ¿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hay premis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? Si es así ¿cuáles s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.  El texto ¿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presume que hay una relación entre premisas y conclus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? ¿Se infiere éstas de aquéll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4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argumentación no suele darse en estado puro, suele combinarse con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xposi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ientras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xposició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limita a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 mostrar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ació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nta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 demostrar, convencer o cambiar ideas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 ello, en un text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ativ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demás de la funció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pelativ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presente en el desarrollo de los argumentos, aparecela funció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referencial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en la parte en la que s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xpone la t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01T17:48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